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3B4-B4E6-49A2-AFEC-A9749346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D27-B1E2-4CD8-B0F8-F239EF1E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BF258-EB8E-461B-8EA3-98EBE5B9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CF05B-93E8-4D66-929E-1DEBF042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6C889-105D-4442-9C21-2C54F2DA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F53CB-D015-4A6F-B771-2464C60B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B593E-4C18-4EA1-98D7-2CDC00E5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4B5BC-5F0E-40D9-A519-838D6BBF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E3A61-3060-490A-B059-3AA62848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7FB7C-882E-45EA-9E29-5F028508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BECC4-085B-4CC1-BBD4-A5CE6134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2905F-1857-488B-B82F-DC7EF0E6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4398-1286-4AE5-A2C4-FFC77886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79165-577A-4355-AA27-475F3B4B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BCD1F-8EBC-4936-A426-A2C911AF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546C6-81D3-4DE2-AE0F-C9D3C84F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56B27-96DC-41B9-971D-FBFC397A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0AAD3-44B6-42F2-A752-B6549A21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7B619-58C2-47B0-AF53-21C50BAE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C6255-DF93-4183-915E-65F04B87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104FD-27AC-4DD4-A7D9-55A37837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D072B-3A43-47B3-9FA6-E3B980DC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E395C-5984-4A41-899F-1D15BEBD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DAD-BD60-486E-B1FE-9A2D92A3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F4E2B-354E-4A03-ABCE-ECECCA22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65528-0957-4D8D-ABAB-B700AEEB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79880-F488-4CE9-AA90-92382207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BF0AC-383A-4C0F-9DE3-6A5F0CAE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4AA8B-6259-4ABF-9AAE-5D7EA4EF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1DCF8-A05B-45D3-B3D5-A3BC24BE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C5A9B-FBCD-4619-82E9-01765B4F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9C14C-9C04-451D-9BAE-33A4179C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93788-891A-4F2C-A834-62860536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B16FC-6502-4DAE-86E1-3B47EB95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5A0B-B4BD-4EEE-B33C-EF6941CD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BA6D3-CF05-4B56-9D65-CED41A7E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48553-B8EB-4DAD-BA94-2391892B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807B2-DB20-4D90-A2BA-5240F646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D8788-D461-4251-9019-F340ADE4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CD90E-213F-43B2-947C-78B75497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4BF79-10FF-46B7-9BC2-3812B30A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D5B58-1C4F-4159-8F8A-AB9AED2B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7BC30-A50F-47B2-A6C2-523D4FE6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A26EF-88D9-4471-B6CE-CED54265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04F31-DF5F-42A1-8FFA-B17F0181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744B-DF7F-4FDB-9E56-2F307046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F3DE6-F04C-424F-AA32-A1C9D876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07313-86F7-4F43-A377-25B5CB67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828B6-CA2A-4A26-B084-C1ADB067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9155E-E604-4E6F-9726-80450559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591B6-85B0-4D9E-A2DC-94CF3659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6007B-84A5-40A3-AC14-61F2E868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65290-CD75-4840-B788-95B621C7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02818-39D9-4016-8B29-238BDB17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E6F56-53DA-42ED-8615-BD234B9E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1A753-859F-4448-910B-43496451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35DD-FAB2-43BD-B5F2-E5A71BA3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B6165-12BE-43A1-BEBF-8AC65713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80CF4-0041-4BDE-BFF4-2766F92F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09874-8582-4058-8CFF-941DAD06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9A481-FEC0-4451-962F-3CF0291A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A224D-1B47-4B08-972C-CD71BF0C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5C23D-6151-462F-A013-DE4605C2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085E7-97E2-46FF-9841-4384004B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72B03-5159-4760-A9C4-F1810AB8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461AA-2788-44F6-82D3-99C370F2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9789F-3DA4-435C-A635-6C83886E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515F-04C0-430D-BB01-4FC8FF13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070D58-4D5E-4CFF-B055-F2BEF697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A876C-2097-435D-A04F-F4917590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3CE18-7640-479C-9E82-2A35F838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AB41E-FECB-45EF-8361-A25991F2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8F73B6-1F35-4695-857B-CF45BEC4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1BD22-795C-4D29-8942-BE471B4E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E2E47-9027-443B-9A37-B91E8FF3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224BF-C3AD-47F5-900F-B808603C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21E77-C2ED-4DC9-A5F8-A0D19C79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9B91A5-66E7-442D-BCA4-E79F9DDF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2C03-79FC-4548-82C4-5FF9A257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FFEF3-AAF1-4E29-9931-F9FC2B82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5D00F-AA49-4E46-BE79-F5814979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879074-3AA2-4DE4-B282-65AE2363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74E866-ED59-4640-95A4-1CEE8FCC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3BAFA6-4C73-445E-AEAA-9C00831F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C7A32-D9AD-465D-B909-42264F8E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D2A96E-4D67-45A0-912B-DD78C071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8109D-2354-4C35-8DB2-FBB5EF39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87F0A1-2DD0-4622-9726-10BBC442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B2CC9-72BD-4578-922D-140F6BD9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E3BB-4031-4159-A13D-797DCC32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24BE89-4B5C-4EAD-9004-2E3DE9BB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F4F32E-BE94-4EC2-8B61-EA8E3E78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F5DE81-0C7C-4EF3-9D48-DCF3F2BD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31286-9F97-4E58-9F13-CF157065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E97328-8984-4308-8428-ABCFCC54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130E8-34DE-45B8-A7F8-477EE0EC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3E4267-8458-4411-A70C-5A449B21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4E38B5-0CC4-4B60-9AA7-C6FFF7B1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1EB6FB-1455-4A69-97D5-47C8816A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F8E436-C21B-4A92-BC59-092CF26D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5871-17BF-46BC-9B16-28DAFA84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8DC94-0013-460F-807B-6AB0E1D3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A6DCEF-245F-4702-B82B-2D6B9C5B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D11563-0E59-4B93-82D4-445072D9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2B33D-1F60-4212-A27D-A33DE18D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BF3B28-4A1D-45D6-92C7-4F5FD938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4FBCC7-2784-4DB4-AA52-79639CCD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905234-646C-4A69-A090-CC73E464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90EE8F-56BB-43C0-B2CC-6167E21A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85505C-4E7F-419A-8511-F4E6A336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E0D784-65D3-498D-831A-15F39323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53A-A870-4C41-9C33-410FE525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F479-74B6-4804-BAA1-DDB54AD6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C7320A-7B8D-4B1A-897E-CBEE68CD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83A685-80C5-41FE-8F1B-BAF294CD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2AB4D-22CB-481D-B96A-826EFFDF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7655CB-65FE-4284-829E-DE6E766F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73959-EA43-4AD2-BE92-9F72BE69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216CA1-4EF0-4470-A819-C006A811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23FB9-5420-4375-8E7D-D67A661B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B876CB-B253-452E-9176-5A24949C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A64D7-58CC-4A9C-9F9F-DA47D79F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741D6A-6C37-4DAF-BE4E-0EEC8328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A3DC-910F-4061-93F1-DFF12AB3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456ECB-E705-469A-9038-F6C9C135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83CA4F-42DC-4D50-ADF6-EC3DBCF7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835E90-39FD-46DD-8AF4-D52A5B2F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AACB2-AFB1-4F29-9D64-D9D51B31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BEAEB5-0888-4BF5-9306-44BA4CFD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B17616-3769-46FA-A813-5F468CB3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642C60-B96D-44A7-9615-FAEEDC96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D9E4B8-5D9D-4408-A8E3-F554E60D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6D3645-92EC-418A-9764-3D53D3F0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89E72E-1227-41DF-B440-742DFA32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BCB4-F292-4959-8C73-823F5D70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8F03EB-E3D4-402C-8278-7FC643D6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3C5EBC-1256-42DE-836D-95145CCB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82C7A-6B65-4142-87C1-A5A784F9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46B080-CFF3-4EB8-908E-12576FE4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1C8A60-764E-4957-AB48-63B84715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F05F3-0E43-4A48-B84E-4B399FE0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3ACD36-0579-430F-BEA6-C5F25E1B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B40D27-8526-4FE1-AFC0-4E91C673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BCA73F-B31C-4E99-847F-61A606A5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CA886C-15FC-42DA-B092-C3A4E743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508E-58B2-44C8-B773-5310E2D1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FDA460-DEA3-4BD6-9FFC-FEBCE787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730DAD-5ED3-442B-94ED-E439AC98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631494-2D0D-4EE8-B3BD-CC24B02C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B89057-3D20-48D5-B6D6-1E2B88DB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474E15-4C42-4963-AF1D-60F1C97C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EED1AE-5119-4D12-9C15-1F54572D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11334-BC3C-48BF-B3AC-0C735FFB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8523D1-93C5-425F-ADE9-C68BE260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B348C7-B77B-4B05-9B37-A534DBC0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4792E9-532A-49E8-8999-881CF03D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27D8-E2A0-4B42-A489-F6863D68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76923B-9BD7-43EB-9391-15CF0E55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D59145-D480-4FEF-A771-5D4F9D68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2EEE66-C631-4D8F-BBDE-57DF8C9E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1D9AB5-C00C-4905-935E-607C18A2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6D7DC7-B640-4189-849B-EDB9DA8A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0A8511-E791-404A-BF79-41F43F22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8128BC-9084-47AE-8AB0-3A107E2C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AC3282-0924-48EA-8BBA-D6CC8DCF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952354-6B5D-4DAE-841B-A85FFF84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1849F2-60D7-4238-86F4-B41D799D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B0A5C-B496-4DCB-A037-902B3409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44C5D5-1B7B-4A85-B0EA-252C129C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F68274-1648-43AA-A50F-60842A3D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8A8344-F006-4212-8069-3EFD1018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EBD1FA-0124-4B52-BEE7-E2F6229C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E42ECE-C099-4BDF-9B9D-F41291CC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B600FD-3F75-452B-8649-8E26C072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375E99-2128-4FB8-8EBB-A99D4A28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0AB79D-F915-4DC6-8350-9746FC3A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256B64-F265-4B8B-9180-EF26AB45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CB631F-CE89-40BA-BA81-455A668E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FA345-49F5-4BEC-9096-736243BF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F52478-0427-4316-85A7-A683F981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F5F27A-D57A-4303-9A9F-DF39B841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76AFA8-8EC7-441E-8960-2C0EEE91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2863C2-D1CA-4EF4-9CC5-584094BC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E00A6F-ADFC-4EDD-91D5-375D6D3C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FC29A-55E9-4B29-888B-8D48E946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57C76-5B79-49A5-A252-1BEB8273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7E129-CEDB-4B76-B9CD-F1FBA6AA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B00-9A71-4BF6-8C09-3D8722A3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935C1-C699-45DB-8364-87CDE1D0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2B62C-C13F-4246-8DBD-E8F68277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2A7D-82CE-4A46-82FC-723CE0F5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9BF1-059E-47EB-B324-BB6D5FAB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D202F-3190-4570-8744-C0193235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09CDC-F32F-4E1D-82D4-45002CF6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912C8-F078-4287-82A5-73CFF933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B2810-5739-49CC-B93A-0CF627D4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E59CB-321D-443A-B8A2-5DCCB796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DD981-0ECF-4910-9962-0F0C4FE9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1CF-2E99-4FE0-BF4A-6F544645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28790-3491-4DAE-A480-62ADAC08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B2929-3BE3-48E1-8EA2-CE8FCAF1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FC8F5-0AC3-4DC6-96EF-17527EF0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61124-13ED-4BC3-B494-E5A9C5DC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7EF3F-C39E-4141-963D-ADED9C56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B0B74-AE1B-45A1-9EB5-31B14708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C163A-173E-4D8D-9B4A-C7C07338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DCA48-7156-49D8-9DDC-BC4CFC47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998D-DD14-43BA-9D7A-9DD10B27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2F29E-6E05-4400-B1F1-F02735EC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A35-AD38-40A0-9E2B-1B719A03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A7F95-8C1A-4540-85AC-B19A1947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64527-3950-42DD-9DB0-967D89E0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E51B8-EA91-4CB0-A394-EBCCBA23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5BB4F-A19A-4EDE-B0C9-BB07A97A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29F89-8208-4E72-AAF1-93A1B6FC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41B47-23EE-42AF-9C0A-94E00B06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480F3-E732-43AA-939B-E7C91608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2B5C0-1784-4ADB-9CB4-7B1FDA6C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D29F2-E833-4DEE-B416-3E677632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79796-52B0-48D7-B53F-76ACCDE6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EE6-1B35-4C43-AB77-3C8D538F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4F25F-D3A6-41E5-A3CC-EE86D57F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F3FEE-1993-496F-AA49-D690C08A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12DDA-E0CD-412E-BB67-FC004213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A880D-9E5C-4A74-A579-77EFABAB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AB6FD-0B34-47D8-9556-80BFB05D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A42C0-7D3F-4200-8B8F-5BADE00A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58DE7-0C88-41A2-A12C-58E654B2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E4A0F-81B5-437B-A98B-3C438A63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562ED-CB8D-4162-886B-4BABD7C0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9568F-0443-49F4-9459-F574D747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D35-21B3-4B0B-B715-85F5CD7A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292AC-F6A9-49A4-A6B9-ED4D9EC1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3BB2F-EE44-4B73-A151-21190AAD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F5FCD-C685-4FA9-A210-B31D9C7A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060A6-E87D-4231-8A22-13796D31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8E918-CA8E-4D47-AF95-0BB0A9D4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D2B8F-1690-4CCE-9DFD-EF7AF1B5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F696A-1F1B-48D5-BB39-9EDC35CC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21887-1DDE-4AAE-8EC7-94BA7478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3CA85-0B21-460F-BAB2-A52EFA95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0879B-B1CE-43F4-9488-04A51B9D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27D-A6C3-47F2-8DF0-3106B525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E415F-07C3-4AA9-8FF9-27AB818D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35C62-8E5E-40E5-B1F5-4C1554E9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D72AC-BD4D-437C-89B7-40C74291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CDBAD-CA4C-40CA-A0DB-D844C8B2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9FA6B-C625-4665-9DD8-38ED628A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13B2C-2DC6-4894-A713-E3568999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73279-FE6E-4414-B8D5-A820F892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6C157-86E1-44F5-901D-B084778B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DF376-7533-4EC2-8FA9-DFC5A23D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4A30D-93CF-4855-951B-9F2F9668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F08-A6D6-4C27-ABF8-894312A1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5BC42-76F3-4E63-A989-02ED4C5A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A3A6B-9420-45E2-8F8B-49DA8E6A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0BAB2-70C5-4C35-9C8C-137ED8EC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FA002-1A0F-4B28-8279-0AFD88B3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5C214-0383-4BD2-A925-18E7003D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D09DA-4A73-4EB4-8158-C2E5CE3D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89BDB-021D-4B06-BA6B-B0435532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62CF9-6FF6-43A9-BC17-BD80EE02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2B56F-7404-48F9-A3DC-F9C7D5D1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D419C-777E-49CA-84F6-F0AA19C4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DDEB-D657-4AB4-9774-6AB48D3D3D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C92A-7B8C-430E-B032-B26C727C87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5216-2D49-4901-981B-FAF280EBFC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3A4A-F94C-4A73-B6D8-255B75F857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21B6-0693-4E59-9784-42DFB81022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FC78-DDDD-4EE6-8C4C-F5C012E1DA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FE04-E8CB-4C36-B659-E31E4DD478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140E-DB14-4539-80E4-932C8D1AA0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FECA-CAA7-4117-8F03-38CB4559C1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859F-84FD-46DD-94E3-E605654487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21EB-FE16-4280-80FC-1E25839BED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A318-D38C-4966-9E5F-E972D6A954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CCAA-AD85-4025-8739-610991A518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FAA6-B726-4E9E-A20F-6AD508F3A3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9336-E836-4322-B634-30660C7F83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9907-BCE9-4ABD-BE95-C3936BFD50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C215-EE93-4011-847D-0691A5FBDA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C60F-892B-4F88-8558-41622F77ED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CEA4-0099-4178-BFC7-1A3B1B4645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6A4A-8830-4E0F-BAB8-97256B9C52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A21C-585D-4050-B2ED-BC95DD1112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1FC0-CF4C-4C83-A37E-D7C9B14301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37AC-77CD-4653-B40E-7B8D4E5732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E107-9829-4332-B5AD-0B8F6A8D1D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DCA7-6D2D-43BA-922B-F8552EFDFB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CD28-BDD9-470F-8B6C-F6451A83C7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85C6-BD64-47D9-8B5F-17AC92314A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9E66-A767-477E-B49D-3EA1940ED7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3179-23DC-47E2-9756-865D9A4BD1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AD1A-7758-451B-87DB-16B6626CE2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5AE4-5E61-4583-BC77-01FFDE31CA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5070-BA5F-4912-9281-E10535A01E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E3B4-111E-4E94-9D06-A84EA856B9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6288-3F5A-4BFB-84C9-4E716F1269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7871-00E8-43E8-AA5F-3836FE8B22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7E20-380B-4DB7-9A9D-E4CE8D3DFA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121E-01B7-4BF8-A73B-52EFF0D9C9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7F72-2A6B-4370-8DF9-D8B96C84E9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29D8-7473-4481-A9F5-506422420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2A88-4555-46AE-9DA5-8D8D8DFCA9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771D-BF06-43E3-AF1B-DF76886631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1271520" y="3114720"/>
            <a:ext cx="66009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142920" y="1052640"/>
            <a:ext cx="8858160" cy="475272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146" descr=""/>
          <p:cNvPicPr/>
          <p:nvPr/>
        </p:nvPicPr>
        <p:blipFill>
          <a:blip r:embed="rId2"/>
          <a:stretch/>
        </p:blipFill>
        <p:spPr>
          <a:xfrm>
            <a:off x="1979640" y="3127320"/>
            <a:ext cx="395280" cy="66996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6147" descr=""/>
          <p:cNvPicPr/>
          <p:nvPr/>
        </p:nvPicPr>
        <p:blipFill>
          <a:blip r:embed="rId3"/>
          <a:stretch/>
        </p:blipFill>
        <p:spPr>
          <a:xfrm>
            <a:off x="4197240" y="3125880"/>
            <a:ext cx="395280" cy="66996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6148" descr=""/>
          <p:cNvPicPr/>
          <p:nvPr/>
        </p:nvPicPr>
        <p:blipFill>
          <a:blip r:embed="rId4"/>
          <a:stretch/>
        </p:blipFill>
        <p:spPr>
          <a:xfrm>
            <a:off x="6386400" y="3125880"/>
            <a:ext cx="395280" cy="66996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149" descr=""/>
          <p:cNvPicPr/>
          <p:nvPr/>
        </p:nvPicPr>
        <p:blipFill>
          <a:blip r:embed="rId5"/>
          <a:stretch/>
        </p:blipFill>
        <p:spPr>
          <a:xfrm>
            <a:off x="8589960" y="3125880"/>
            <a:ext cx="395280" cy="669960"/>
          </a:xfrm>
          <a:prstGeom prst="rect">
            <a:avLst/>
          </a:prstGeom>
          <a:ln w="0">
            <a:noFill/>
          </a:ln>
        </p:spPr>
      </p:pic>
      <p:pic>
        <p:nvPicPr>
          <p:cNvPr id="968" name="图片 6150" descr=""/>
          <p:cNvPicPr/>
          <p:nvPr/>
        </p:nvPicPr>
        <p:blipFill>
          <a:blip r:embed="rId6"/>
          <a:stretch/>
        </p:blipFill>
        <p:spPr>
          <a:xfrm>
            <a:off x="2655720" y="4680000"/>
            <a:ext cx="1086120" cy="43812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6151" descr=""/>
          <p:cNvPicPr/>
          <p:nvPr/>
        </p:nvPicPr>
        <p:blipFill>
          <a:blip r:embed="rId7"/>
          <a:stretch/>
        </p:blipFill>
        <p:spPr>
          <a:xfrm>
            <a:off x="6732720" y="4681440"/>
            <a:ext cx="1085760" cy="43812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6152" descr=""/>
          <p:cNvPicPr/>
          <p:nvPr/>
        </p:nvPicPr>
        <p:blipFill>
          <a:blip r:embed="rId8"/>
          <a:stretch/>
        </p:blipFill>
        <p:spPr>
          <a:xfrm>
            <a:off x="2268360" y="5272200"/>
            <a:ext cx="1733760" cy="47628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6153" descr=""/>
          <p:cNvPicPr/>
          <p:nvPr/>
        </p:nvPicPr>
        <p:blipFill>
          <a:blip r:embed="rId9"/>
          <a:stretch/>
        </p:blipFill>
        <p:spPr>
          <a:xfrm>
            <a:off x="6357960" y="5286240"/>
            <a:ext cx="17334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7169" descr=""/>
          <p:cNvPicPr/>
          <p:nvPr/>
        </p:nvPicPr>
        <p:blipFill>
          <a:blip r:embed="rId1"/>
          <a:stretch/>
        </p:blipFill>
        <p:spPr>
          <a:xfrm>
            <a:off x="490680" y="1295280"/>
            <a:ext cx="8162640" cy="42674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1763640" y="19018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3649680" y="19018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5522760" y="18874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7437600" y="18730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1763640" y="23781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7"/>
          <a:stretch/>
        </p:blipFill>
        <p:spPr>
          <a:xfrm>
            <a:off x="3649680" y="23637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8"/>
          <a:stretch/>
        </p:blipFill>
        <p:spPr>
          <a:xfrm>
            <a:off x="5522760" y="23637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9"/>
          <a:stretch/>
        </p:blipFill>
        <p:spPr>
          <a:xfrm>
            <a:off x="7437600" y="2349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1" name="图片 7178" descr=""/>
          <p:cNvPicPr/>
          <p:nvPr/>
        </p:nvPicPr>
        <p:blipFill>
          <a:blip r:embed="rId10"/>
          <a:stretch/>
        </p:blipFill>
        <p:spPr>
          <a:xfrm>
            <a:off x="1936800" y="4924440"/>
            <a:ext cx="1085760" cy="43812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7179" descr=""/>
          <p:cNvPicPr/>
          <p:nvPr/>
        </p:nvPicPr>
        <p:blipFill>
          <a:blip r:embed="rId11"/>
          <a:stretch/>
        </p:blipFill>
        <p:spPr>
          <a:xfrm>
            <a:off x="5249880" y="4952880"/>
            <a:ext cx="15238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图片 8193" descr=""/>
          <p:cNvPicPr/>
          <p:nvPr/>
        </p:nvPicPr>
        <p:blipFill>
          <a:blip r:embed="rId1"/>
          <a:stretch/>
        </p:blipFill>
        <p:spPr>
          <a:xfrm>
            <a:off x="171360" y="1771560"/>
            <a:ext cx="8801280" cy="33148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8194" descr=""/>
          <p:cNvPicPr/>
          <p:nvPr/>
        </p:nvPicPr>
        <p:blipFill>
          <a:blip r:embed="rId2"/>
          <a:stretch/>
        </p:blipFill>
        <p:spPr>
          <a:xfrm>
            <a:off x="1073160" y="4565520"/>
            <a:ext cx="1085760" cy="438120"/>
          </a:xfrm>
          <a:prstGeom prst="rect">
            <a:avLst/>
          </a:prstGeom>
          <a:ln w="0">
            <a:noFill/>
          </a:ln>
        </p:spPr>
      </p:pic>
      <p:pic>
        <p:nvPicPr>
          <p:cNvPr id="985" name="图片 8195" descr=""/>
          <p:cNvPicPr/>
          <p:nvPr/>
        </p:nvPicPr>
        <p:blipFill>
          <a:blip r:embed="rId3"/>
          <a:stretch/>
        </p:blipFill>
        <p:spPr>
          <a:xfrm>
            <a:off x="4024440" y="4535640"/>
            <a:ext cx="1733400" cy="475920"/>
          </a:xfrm>
          <a:prstGeom prst="rect">
            <a:avLst/>
          </a:prstGeom>
          <a:ln w="0">
            <a:noFill/>
          </a:ln>
        </p:spPr>
      </p:pic>
      <p:pic>
        <p:nvPicPr>
          <p:cNvPr id="986" name="图片 8196" descr=""/>
          <p:cNvPicPr/>
          <p:nvPr/>
        </p:nvPicPr>
        <p:blipFill>
          <a:blip r:embed="rId4"/>
          <a:stretch/>
        </p:blipFill>
        <p:spPr>
          <a:xfrm>
            <a:off x="7236000" y="4551480"/>
            <a:ext cx="17334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02:0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